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FCD-1B74-4907-94F2-86C3E0B3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E8CA-CEE1-4A00-94C8-20D76775D1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DD0-A16C-4AD4-A754-0478F6E8155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B6D-B1E3-4F3C-B3CC-B6DBF3BBBBD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D2B-1F06-4C8D-B22F-F1606E84961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188-6403-4F4C-BA87-7529694DCE8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BB1F-3DF0-420B-8837-EC2F78BDF5D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650-F010-4D7E-B707-8CDECB9113A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61B5-A4C8-4F17-A981-B43CF09AF8F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4C88-B157-4D58-8CE0-140086A466B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6C6C-8B2E-49F1-A6C5-2592445FD2B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92F-BB4F-4EFD-97AD-3B7FEFF99D7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652-B064-44F1-BE75-2C889FF3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676-24D6-47CC-9850-6FF622A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011-26D4-4F9E-BC17-E33AFCBE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38D-E518-4D61-8B41-0BAAA7CE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7F17-5AB0-4539-A598-33A07B9A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D02C-2C81-467E-A2E4-2C0E25A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37B-94E3-412D-A77D-BBFE7F4D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1759-8C9E-428B-8FF2-730CBF4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2C47-67BE-4173-AA9D-7F73A27F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B74C-E114-4BDE-BC71-D8CB576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3042-9A75-4982-9A11-7B3D95B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C6C-3795-4D2D-B3D0-8D8F084C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FC3-B572-484B-A18A-5B1D66D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E71-067E-4459-9386-F4E8B68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D0CF-CF6C-4FC0-B7C3-D35E183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221-7A17-41DF-8C5A-49FE648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2278-15A8-4112-AA04-2649F1A4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850-ADCF-4C47-B0E1-A9AD5303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47D-EAA2-44E3-819D-E8031B3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027-DE59-424C-818C-65B323E9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4E7-7DD6-4B52-B1F3-4EA67F1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1B8-1C21-4C20-8DC3-32ACA41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AB0-7F58-47B3-A8A5-7312A44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03F-3C47-46A9-B01C-3DF09C3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7504-6CBE-4526-BCE5-766DFE83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2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gradFill rotWithShape="0">
            <a:gsLst>
              <a:gs pos="0">
                <a:srgbClr val="ffefcc">
                  <a:alpha val="36078"/>
                </a:srgbClr>
              </a:gs>
              <a:gs pos="100000">
                <a:srgbClr val="f2fdf7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Rectangle 28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gradFill rotWithShape="0">
            <a:gsLst>
              <a:gs pos="0">
                <a:srgbClr val="ffefcc">
                  <a:alpha val="36078"/>
                </a:srgbClr>
              </a:gs>
              <a:gs pos="100000">
                <a:srgbClr val="f2fdf7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D99-1EE3-46F6-9D79-02DF650A943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15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8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5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9"/>
          <p:cNvSpPr/>
          <p:nvPr/>
        </p:nvSpPr>
        <p:spPr>
          <a:xfrm>
            <a:off x="1008000" y="1143000"/>
            <a:ext cx="68580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enres of high cognitive deman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mathematical task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for your students</a:t>
            </a: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90"/>
          <p:cNvSpPr/>
          <p:nvPr/>
        </p:nvSpPr>
        <p:spPr>
          <a:xfrm>
            <a:off x="1835280" y="3978360"/>
            <a:ext cx="540216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Greisy Winicki Landman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80"/>
                </a:solidFill>
                <a:latin typeface="Comic Sans MS"/>
              </a:rPr>
              <a:t>Dept of Mathematics and Statistics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80"/>
                </a:solidFill>
                <a:latin typeface="Comic Sans MS"/>
              </a:rPr>
              <a:t>California State Polytechnic University, Pomona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greisyw@cpp.edu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ext Box 100"/>
          <p:cNvSpPr/>
          <p:nvPr/>
        </p:nvSpPr>
        <p:spPr>
          <a:xfrm>
            <a:off x="1440000" y="31417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MaThink Annual Meeting – 2016 - Riversid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1" descr="992_example"/>
          <p:cNvPicPr/>
          <p:nvPr/>
        </p:nvPicPr>
        <p:blipFill>
          <a:blip r:embed="rId1"/>
          <a:stretch/>
        </p:blipFill>
        <p:spPr>
          <a:xfrm>
            <a:off x="649440" y="115920"/>
            <a:ext cx="8099280" cy="647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077840" y="800280"/>
            <a:ext cx="6807240" cy="5119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240000" y="11206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rational function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439600" y="5452920"/>
            <a:ext cx="27957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exponential functions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y = 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</a:rPr>
              <a:t>x+D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+C  (B&gt;0)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7960" y="16398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80"/>
                </a:solidFill>
                <a:latin typeface="Comic Sans MS"/>
              </a:rPr>
              <a:t>Domain is a subset of R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065640" y="1998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80"/>
                </a:solidFill>
                <a:latin typeface="Comic Sans MS"/>
              </a:rPr>
              <a:t>Domain is R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796720" y="2622600"/>
            <a:ext cx="191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Have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an horizontal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asymptote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065960" y="2270160"/>
            <a:ext cx="2100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May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</a:t>
            </a:r>
            <a:r>
              <a:rPr b="1" lang="en-US" sz="1400" spc="-1" strike="noStrike" u="sng">
                <a:solidFill>
                  <a:srgbClr val="32b464"/>
                </a:solidFill>
                <a:uFillTx/>
                <a:latin typeface="Comic Sans MS"/>
              </a:rPr>
              <a:t>have</a:t>
            </a: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 an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b464"/>
                </a:solidFill>
                <a:latin typeface="Comic Sans MS"/>
              </a:rPr>
              <a:t>horizontal asymptote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923080" y="3325680"/>
            <a:ext cx="1573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Graph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the y-axi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077840" y="298296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Graph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Comic Sans MS"/>
              </a:rPr>
              <a:t>may not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intersect the y-axis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651640" y="40417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Graph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the x-axis at most once</a:t>
            </a:r>
            <a:r>
              <a:rPr b="1" lang="en-US" sz="1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1077840" y="3686040"/>
            <a:ext cx="21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Graph may intersect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ff"/>
                </a:solidFill>
                <a:latin typeface="Comic Sans MS"/>
              </a:rPr>
              <a:t>the x-axis many times</a:t>
            </a: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977080" y="476100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notonic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086840" y="4373640"/>
            <a:ext cx="16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Not necessarily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notonic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424320" y="2023920"/>
            <a:ext cx="21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continuous at each point of their domain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3444120" y="321624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differentiable at each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point of their domain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95280" y="2097000"/>
            <a:ext cx="78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1440000" y="1023840"/>
            <a:ext cx="6399000" cy="459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150920" y="65736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ow it is your turn: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150920" y="1341360"/>
            <a:ext cx="71661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ther concepts to compare / contrast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factors and the multiples of a natural number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ime numbers and the composite numbers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rational numbers and the irrational number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rhombus and a rectangl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kite and a trapezoid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arabola and an hyperbola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rithmetic sequences and geometric sequence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7835760" y="5842080"/>
            <a:ext cx="962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042920" y="512640"/>
            <a:ext cx="7416720" cy="6194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150920" y="1015920"/>
            <a:ext cx="730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yering Task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consist of a set a problems that have to b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) solved and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) arranged in increasing order of difficulty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udents may be asked also to add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blems of their own and place them in the sequence created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28000" cy="625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9" descr=""/>
          <p:cNvPicPr/>
          <p:nvPr/>
        </p:nvPicPr>
        <p:blipFill>
          <a:blip r:embed="rId2"/>
          <a:stretch/>
        </p:blipFill>
        <p:spPr>
          <a:xfrm>
            <a:off x="934920" y="2023920"/>
            <a:ext cx="5077080" cy="351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1"/>
          <p:cNvSpPr/>
          <p:nvPr/>
        </p:nvSpPr>
        <p:spPr>
          <a:xfrm>
            <a:off x="755640" y="584280"/>
            <a:ext cx="7164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 congruent circular cylinders were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d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a string following these designs.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 each case, the length of the string is calculated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Text Box 72"/>
          <p:cNvSpPr/>
          <p:nvPr/>
        </p:nvSpPr>
        <p:spPr>
          <a:xfrm>
            <a:off x="6335640" y="1952640"/>
            <a:ext cx="194472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Your task: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Arrange the designs in increasing order of difficulty for the calculation of its perimeter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2) Justify your ordering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omic Sans MS"/>
              </a:rPr>
              <a:t>3) Add a design of your own.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0" name="Picture 73" descr=""/>
          <p:cNvPicPr/>
          <p:nvPr/>
        </p:nvPicPr>
        <p:blipFill>
          <a:blip r:embed="rId3"/>
          <a:stretch/>
        </p:blipFill>
        <p:spPr>
          <a:xfrm>
            <a:off x="7956720" y="589932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5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952200" cy="2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6" descr=""/>
          <p:cNvPicPr/>
          <p:nvPr/>
        </p:nvPicPr>
        <p:blipFill>
          <a:blip r:embed="rId5"/>
          <a:stretch/>
        </p:blipFill>
        <p:spPr>
          <a:xfrm>
            <a:off x="2016000" y="3429000"/>
            <a:ext cx="1266840" cy="333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7" descr=""/>
          <p:cNvPicPr/>
          <p:nvPr/>
        </p:nvPicPr>
        <p:blipFill>
          <a:blip r:embed="rId6"/>
          <a:stretch/>
        </p:blipFill>
        <p:spPr>
          <a:xfrm>
            <a:off x="4782960" y="2060640"/>
            <a:ext cx="1552680" cy="380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8" descr=""/>
          <p:cNvPicPr/>
          <p:nvPr/>
        </p:nvPicPr>
        <p:blipFill>
          <a:blip r:embed="rId7"/>
          <a:stretch/>
        </p:blipFill>
        <p:spPr>
          <a:xfrm>
            <a:off x="1636560" y="5049720"/>
            <a:ext cx="1076400" cy="266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9" descr=""/>
          <p:cNvPicPr/>
          <p:nvPr/>
        </p:nvPicPr>
        <p:blipFill>
          <a:blip r:embed="rId8"/>
          <a:stretch/>
        </p:blipFill>
        <p:spPr>
          <a:xfrm>
            <a:off x="3716280" y="5178600"/>
            <a:ext cx="1066680" cy="276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9"/>
          <a:stretch/>
        </p:blipFill>
        <p:spPr>
          <a:xfrm>
            <a:off x="4933800" y="5049720"/>
            <a:ext cx="143856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1" descr=""/>
          <p:cNvPicPr/>
          <p:nvPr/>
        </p:nvPicPr>
        <p:blipFill>
          <a:blip r:embed="rId10"/>
          <a:stretch/>
        </p:blipFill>
        <p:spPr>
          <a:xfrm>
            <a:off x="934920" y="2071800"/>
            <a:ext cx="5619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71640" y="9446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gnitive conflic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826920" y="2600280"/>
            <a:ext cx="67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mooth seas do not make skillful sailors.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612720" y="2492280"/>
            <a:ext cx="6804000" cy="107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175400" y="10810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sk: Resolve the conflic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7272360" cy="6488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666880" cy="3068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3708360" y="2046240"/>
            <a:ext cx="4103640" cy="2147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2808360" y="4653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64 = 65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7885080" y="5877000"/>
            <a:ext cx="9619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8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9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0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2" descr=""/>
          <p:cNvPicPr/>
          <p:nvPr/>
        </p:nvPicPr>
        <p:blipFill>
          <a:blip r:embed="rId4"/>
          <a:stretch/>
        </p:blipFill>
        <p:spPr>
          <a:xfrm>
            <a:off x="1908000" y="1233360"/>
            <a:ext cx="5445360" cy="4013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3"/>
          <p:cNvSpPr/>
          <p:nvPr/>
        </p:nvSpPr>
        <p:spPr>
          <a:xfrm>
            <a:off x="1547640" y="404640"/>
            <a:ext cx="58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n a traditional geoboard,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construct the 7 different types of triangles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4" name="Picture 94" descr=""/>
          <p:cNvPicPr/>
          <p:nvPr/>
        </p:nvPicPr>
        <p:blipFill>
          <a:blip r:embed="rId5"/>
          <a:stretch/>
        </p:blipFill>
        <p:spPr>
          <a:xfrm>
            <a:off x="8001000" y="5877000"/>
            <a:ext cx="961920" cy="73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5"/>
          <p:cNvSpPr/>
          <p:nvPr/>
        </p:nvSpPr>
        <p:spPr>
          <a:xfrm>
            <a:off x="216000" y="271440"/>
            <a:ext cx="58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ive examples: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96"/>
          <p:cNvSpPr/>
          <p:nvPr/>
        </p:nvSpPr>
        <p:spPr>
          <a:xfrm>
            <a:off x="3924360" y="56484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Is it possible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97" descr=""/>
          <p:cNvPicPr/>
          <p:nvPr/>
        </p:nvPicPr>
        <p:blipFill>
          <a:blip r:embed="rId6"/>
          <a:stretch/>
        </p:blipFill>
        <p:spPr>
          <a:xfrm>
            <a:off x="1547640" y="1233360"/>
            <a:ext cx="6029640" cy="3800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8"/>
          <p:cNvSpPr/>
          <p:nvPr/>
        </p:nvSpPr>
        <p:spPr>
          <a:xfrm>
            <a:off x="1908000" y="15145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99"/>
          <p:cNvSpPr/>
          <p:nvPr/>
        </p:nvSpPr>
        <p:spPr>
          <a:xfrm>
            <a:off x="4227120" y="1514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R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2199960" y="36752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I.O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Rectangle 101"/>
          <p:cNvSpPr/>
          <p:nvPr/>
        </p:nvSpPr>
        <p:spPr>
          <a:xfrm>
            <a:off x="4460040" y="2960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102"/>
          <p:cNvSpPr/>
          <p:nvPr/>
        </p:nvSpPr>
        <p:spPr>
          <a:xfrm>
            <a:off x="5555160" y="36752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R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Rectangle 103"/>
          <p:cNvSpPr/>
          <p:nvPr/>
        </p:nvSpPr>
        <p:spPr>
          <a:xfrm>
            <a:off x="6244200" y="2205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.O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postit1"/>
          <p:cNvPicPr/>
          <p:nvPr/>
        </p:nvPicPr>
        <p:blipFill>
          <a:blip r:embed="rId3"/>
          <a:stretch/>
        </p:blipFill>
        <p:spPr>
          <a:xfrm>
            <a:off x="132228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1692360" y="40464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Equilateral triangles in a traditional geoboard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4"/>
          <a:stretch/>
        </p:blipFill>
        <p:spPr>
          <a:xfrm>
            <a:off x="1800360" y="1376280"/>
            <a:ext cx="2485800" cy="2505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5"/>
          <a:stretch/>
        </p:blipFill>
        <p:spPr>
          <a:xfrm>
            <a:off x="4751280" y="1376280"/>
            <a:ext cx="2514600" cy="2581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6"/>
          <a:stretch/>
        </p:blipFill>
        <p:spPr>
          <a:xfrm>
            <a:off x="1943280" y="4476600"/>
            <a:ext cx="186660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3" descr=""/>
          <p:cNvPicPr/>
          <p:nvPr/>
        </p:nvPicPr>
        <p:blipFill>
          <a:blip r:embed="rId7"/>
          <a:stretch/>
        </p:blipFill>
        <p:spPr>
          <a:xfrm>
            <a:off x="4067280" y="4476600"/>
            <a:ext cx="2009520" cy="1495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4"/>
          <p:cNvSpPr/>
          <p:nvPr/>
        </p:nvSpPr>
        <p:spPr>
          <a:xfrm>
            <a:off x="7667640" y="155736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area of any polygon on the geoboard is …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7558920" y="4192560"/>
            <a:ext cx="172296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squar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f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length of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any segment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n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geoboard is…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26" descr=""/>
          <p:cNvPicPr/>
          <p:nvPr/>
        </p:nvPicPr>
        <p:blipFill>
          <a:blip r:embed="rId8"/>
          <a:stretch/>
        </p:blipFill>
        <p:spPr>
          <a:xfrm>
            <a:off x="257040" y="5867280"/>
            <a:ext cx="962280" cy="733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7"/>
          <p:cNvSpPr/>
          <p:nvPr/>
        </p:nvSpPr>
        <p:spPr>
          <a:xfrm>
            <a:off x="5508720" y="7700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Lucida Handwriting"/>
              </a:rPr>
              <a:t>NO!!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14480" y="1876320"/>
            <a:ext cx="16858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Are you sure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Why there are no equilateral triangles in that geoboard?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7" descr="note"/>
          <p:cNvPicPr/>
          <p:nvPr/>
        </p:nvPicPr>
        <p:blipFill>
          <a:blip r:embed="rId2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8" descr="note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9" descr="postit1"/>
          <p:cNvPicPr/>
          <p:nvPr/>
        </p:nvPicPr>
        <p:blipFill>
          <a:blip r:embed="rId4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0"/>
          <p:cNvSpPr/>
          <p:nvPr/>
        </p:nvSpPr>
        <p:spPr>
          <a:xfrm>
            <a:off x="1871640" y="800280"/>
            <a:ext cx="6696000" cy="5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* What is a </a:t>
            </a:r>
            <a:r>
              <a:rPr b="1" lang="en-US" sz="2000" spc="-1" strike="noStrike">
                <a:solidFill>
                  <a:srgbClr val="ff0080"/>
                </a:solidFill>
                <a:latin typeface="Comic Sans MS"/>
              </a:rPr>
              <a:t>genre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Rectangle 61"/>
          <p:cNvSpPr/>
          <p:nvPr/>
        </p:nvSpPr>
        <p:spPr>
          <a:xfrm>
            <a:off x="1920960" y="1175760"/>
            <a:ext cx="6156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Genre (from French, "kind" or "sort",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from Latin: genus (stem gener-), is the term for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any category of literature or other forms of ar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e.g. music, and </a:t>
            </a:r>
            <a:r>
              <a:rPr b="1" lang="en-US" sz="1800" spc="-1" strike="noStrike">
                <a:solidFill>
                  <a:srgbClr val="ff0080"/>
                </a:solidFill>
                <a:latin typeface="Comic Sans MS"/>
              </a:rPr>
              <a:t>in general, any type of discourse,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whether written or spoken, audial or visual, based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on some set of stylistic criteria.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80"/>
                </a:solidFill>
                <a:latin typeface="Comic Sans MS"/>
              </a:rPr>
              <a:t>Genres are formed by conventions</a:t>
            </a: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 that chang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over time as new genres are invented and th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use of old ones are discontinued.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1874880" y="4329000"/>
            <a:ext cx="6297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* What is the </a:t>
            </a:r>
            <a:r>
              <a:rPr b="1" lang="en-US" sz="2000" spc="-1" strike="noStrike">
                <a:solidFill>
                  <a:srgbClr val="ff0080"/>
                </a:solidFill>
                <a:latin typeface="Comic Sans MS"/>
              </a:rPr>
              <a:t>cognitive demand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 of a task?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The kind and level of thinking required of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tudents in order to successfully engage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with and solve the task.</a:t>
            </a:r>
            <a:r>
              <a:rPr b="1" lang="ja-JP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       </a:t>
            </a:r>
            <a:r>
              <a:rPr b="1" lang="en-US" sz="1400" spc="-1" strike="noStrike">
                <a:solidFill>
                  <a:srgbClr val="333333"/>
                </a:solidFill>
                <a:latin typeface="Comic Sans MS"/>
              </a:rPr>
              <a:t>Stein, Smith, Henningsen, &amp; Silver, (2000)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note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note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78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ostit1"/>
          <p:cNvPicPr/>
          <p:nvPr/>
        </p:nvPicPr>
        <p:blipFill>
          <a:blip r:embed="rId3"/>
          <a:stretch/>
        </p:blipFill>
        <p:spPr>
          <a:xfrm>
            <a:off x="1219320" y="0"/>
            <a:ext cx="6858000" cy="6781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087640" y="1052640"/>
            <a:ext cx="496872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</a:rPr>
              <a:t>Genres of tasks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Sorting / classifying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Compare /contrast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Layering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Cognitive conflict task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Give examples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Is it possible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What if not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What if…?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Look for the convers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Tell me about it</a:t>
            </a:r>
            <a:r>
              <a:rPr b="1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04000" y="2039760"/>
            <a:ext cx="490320" cy="52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70720" y="2666880"/>
            <a:ext cx="466560" cy="56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486000" cy="59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4446720" y="2948040"/>
            <a:ext cx="519120" cy="55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10"/>
          <a:stretch/>
        </p:blipFill>
        <p:spPr>
          <a:xfrm>
            <a:off x="4513320" y="4400640"/>
            <a:ext cx="452520" cy="5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11"/>
          <a:stretch/>
        </p:blipFill>
        <p:spPr>
          <a:xfrm>
            <a:off x="4703760" y="3843360"/>
            <a:ext cx="523800" cy="5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12"/>
          <a:stretch/>
        </p:blipFill>
        <p:spPr>
          <a:xfrm>
            <a:off x="5594400" y="3505320"/>
            <a:ext cx="490320" cy="55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13"/>
          <a:stretch/>
        </p:blipFill>
        <p:spPr>
          <a:xfrm>
            <a:off x="5338800" y="5392800"/>
            <a:ext cx="50940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22047_preview"/>
          <p:cNvPicPr/>
          <p:nvPr/>
        </p:nvPicPr>
        <p:blipFill>
          <a:blip r:embed="rId14"/>
          <a:stretch/>
        </p:blipFill>
        <p:spPr>
          <a:xfrm>
            <a:off x="4824360" y="5805360"/>
            <a:ext cx="3668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143000" y="1125360"/>
            <a:ext cx="728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150920" y="800280"/>
            <a:ext cx="61149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is defined a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ordering or arrangement of objects into sets (classes) on the basis of their relationships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f the criteria for the ordering are given, it is 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rting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task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term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refers to the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Comic Sans MS"/>
              </a:rPr>
              <a:t>process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and also denotes the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Comic Sans MS"/>
              </a:rPr>
              <a:t>end-product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of that process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867280" y="1160640"/>
            <a:ext cx="2178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Your task: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Sort these triangles by their are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Classify these triangles using at least two different criteria.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3085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6" descr="1032_example"/>
          <p:cNvPicPr/>
          <p:nvPr/>
        </p:nvPicPr>
        <p:blipFill>
          <a:blip r:embed="rId1"/>
          <a:stretch/>
        </p:blipFill>
        <p:spPr>
          <a:xfrm>
            <a:off x="279360" y="260280"/>
            <a:ext cx="7640640" cy="6112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09520" y="1628640"/>
            <a:ext cx="7170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Picture 94" descr=""/>
          <p:cNvPicPr/>
          <p:nvPr/>
        </p:nvPicPr>
        <p:blipFill>
          <a:blip r:embed="rId2"/>
          <a:stretch/>
        </p:blipFill>
        <p:spPr>
          <a:xfrm>
            <a:off x="468360" y="657360"/>
            <a:ext cx="5346720" cy="53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6659640" y="657360"/>
          <a:ext cx="1746000" cy="6035400"/>
        </p:xfrm>
        <a:graphic>
          <a:graphicData uri="http://schemas.openxmlformats.org/drawingml/2006/table">
            <a:tbl>
              <a:tblPr/>
              <a:tblGrid>
                <a:gridCol w="679320"/>
                <a:gridCol w="1066680"/>
              </a:tblGrid>
              <a:tr h="118908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area (u</a:t>
                      </a:r>
                      <a:r>
                        <a:rPr b="1" lang="en-US" sz="1800" spc="-1" strike="noStrike" baseline="30000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triangle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0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a)(n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1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j)(l)(p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1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d)(i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c)(e)(h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2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o)(m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3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g)(k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3.5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?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4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2880" bIns="182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b)(f)</a:t>
                      </a:r>
                      <a:endParaRPr b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6" descr="1032_example"/>
          <p:cNvPicPr/>
          <p:nvPr/>
        </p:nvPicPr>
        <p:blipFill>
          <a:blip r:embed="rId1"/>
          <a:stretch/>
        </p:blipFill>
        <p:spPr>
          <a:xfrm>
            <a:off x="647640" y="441360"/>
            <a:ext cx="7640640" cy="611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368360" y="1092240"/>
          <a:ext cx="6172200" cy="4668840"/>
        </p:xfrm>
        <a:graphic>
          <a:graphicData uri="http://schemas.openxmlformats.org/drawingml/2006/table">
            <a:tbl>
              <a:tblPr/>
              <a:tblGrid>
                <a:gridCol w="1542960"/>
                <a:gridCol w="1543320"/>
                <a:gridCol w="1542960"/>
                <a:gridCol w="1542960"/>
              </a:tblGrid>
              <a:tr h="112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b) (c) (f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o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a) (l) (m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d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g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e) (i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h) (j) (k)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ＭＳ Ｐゴシック"/>
                        </a:rPr>
                        <a:t>(n) (p)  </a:t>
                      </a:r>
                      <a:endParaRPr b="1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83"/>
          <p:cNvSpPr/>
          <p:nvPr/>
        </p:nvSpPr>
        <p:spPr>
          <a:xfrm>
            <a:off x="3117960" y="15210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Acut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6141960" y="151596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Obtus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592520" y="15210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Righ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1440000" y="263700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Equilatera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1476360" y="483408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Scalen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88"/>
          <p:cNvSpPr/>
          <p:nvPr/>
        </p:nvSpPr>
        <p:spPr>
          <a:xfrm>
            <a:off x="1403280" y="368136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mic Sans MS"/>
              </a:rPr>
              <a:t>Isosceles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ext Box 103"/>
          <p:cNvSpPr/>
          <p:nvPr/>
        </p:nvSpPr>
        <p:spPr>
          <a:xfrm>
            <a:off x="3311640" y="252900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omic Sans MS"/>
              </a:rPr>
              <a:t>-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1032_example"/>
          <p:cNvPicPr/>
          <p:nvPr/>
        </p:nvPicPr>
        <p:blipFill>
          <a:blip r:embed="rId1"/>
          <a:stretch/>
        </p:blipFill>
        <p:spPr>
          <a:xfrm>
            <a:off x="539640" y="260280"/>
            <a:ext cx="7640640" cy="6112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7920000" y="5805360"/>
            <a:ext cx="961920" cy="733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755640" y="260280"/>
            <a:ext cx="828036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df7"/>
                </a:solidFill>
                <a:latin typeface="Comic Sans MS"/>
              </a:rPr>
              <a:t>Why do we classify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) To organize the objects in order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o achieve economy of memory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i) To achieve ease of manipulation of the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objects in a class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ii) To learn and describe the structure of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and relationships among the objects in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a class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iv) To be able to compare and contrast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the different classes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v) To generate hypotheses about the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mic Sans MS"/>
              </a:rPr>
              <a:t>objects in the class;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992_example"/>
          <p:cNvPicPr/>
          <p:nvPr/>
        </p:nvPicPr>
        <p:blipFill>
          <a:blip r:embed="rId1"/>
          <a:stretch/>
        </p:blipFill>
        <p:spPr>
          <a:xfrm>
            <a:off x="576360" y="146160"/>
            <a:ext cx="8099280" cy="6478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368360" y="981000"/>
            <a:ext cx="64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ntrast task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consist of the analysis of  two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n order to identify common attributes and different characteristic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When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you look for their similarities--the properties that make them alike, attributes that both of these objects have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When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ntras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em, you look at their differences, properties that one of the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bject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has but the other has not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Vicky Kukuruda</cp:lastModifiedBy>
  <dcterms:modified xsi:type="dcterms:W3CDTF">2016-03-01T20:10:37Z</dcterms:modified>
  <cp:revision>241</cp:revision>
  <dc:subject/>
  <dc:title>Sticky note template</dc:title>
</cp:coreProperties>
</file>